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60B-DFEE-4144-A098-8123F945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B61-2DA4-49A1-BD83-1A14C02B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961-8441-43EA-9C98-BAFE3BE4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57F-9DDD-4EE9-8B3F-5AD6E5B4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3BA3-66CF-4D5A-A13C-976FA7EE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14A2-ADF9-4374-87FF-10FE05AB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47FE-2E0D-4CAE-BFD8-A46421ED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4857-4F7D-46E9-965E-FD30FCA5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B7F9-1E0D-4C8C-B87B-0300A8C8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61AE-A35E-403E-914E-9122F822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CF9B-03D7-4101-ABC4-1320A681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F68-55B0-4C07-AEA3-1268B9D6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671E-23DF-4D66-B528-FD2D332B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09D3-7744-48D3-9666-45449631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387D-4DC9-42A5-9F04-E6A8E6B5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5F8B-13C6-4B11-927C-A0167BD6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6E67-93D7-4857-B251-32A74E4F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928-F5DE-4DFD-9F0D-DF3BFCFB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C6C-E2E6-46B4-B20B-EF93117D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CA0-5961-48E6-BDE4-8F622BD5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55C-A4A3-4D80-9881-A3C6C294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E68-382E-486A-9EE7-C256EB2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B5D9-66DB-4577-987A-86D6C02E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7FF-375D-4319-91CB-C83D41CD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16A7-0EA8-42C5-AAFD-02DB3C073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E0A4-A7A1-4794-8FC3-470526003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Objective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define an eco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trace the cycling of oxygen through an eco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explain how water, nitrogen, or carbon cycles through an eco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Oxygen Cycl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the equations for photosynthesis and cellular respiration (you’ll learn them next year, don’t need to memorize them now).  Notice what happens with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-&gt;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ular Respi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&gt;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Oxygen Cycl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70866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ycles of Matte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hree other major cycles of matter, more complicated than that oxygen cycle: Carbon, water, and nitro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re going to get into 3 groups, research one matter cycle, and prepare a brief lesson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rter than the vertebrate class presentations!  Ju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eriods to pre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e period to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 do want two specific things, in addition to being good teachers: a handout study guide for students to fill out, and either a poster or moving physical demon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cosystems!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cology!  Ecosystems are an essential unit!  I tried to just use the word “community” last week but notice how ecosystems are such a big deal that I failed sometimes and used the word any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cosyste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ent from a community.  Remind me, what’s a commun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cosystem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unity is defined as all the populations in an area and their interactions with each other.  People usually think that this is an ecosystem, but not qu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 ecosystem is all the biotic factors (the community) in an area and their functioning with all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biotic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factors of that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biotic vs. abiotic, from the characteristics of lif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system is another step up in complexity.  It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 the living things, plus all the non-living th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soil, the water, the air, the roc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vels of Organizat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cosystem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biotic factors in the Harwich eco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cosystem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biotic factors in the Harwich eco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of the abiotic factors in the Harwich eco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Ecosystem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re going to take some time off from exclusively the living stuff to look at some of these abiotic factors.  Namely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cycles of some of the most important elements and molecules through eco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oxygen!  What’s important about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Oxygen Cycl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xygen cycle includes fixation into rock and mineral, but I’d like to point out especially its cycle in terms of the energy processes we’ve been discu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ygen cycles between photosynthesis and cellular respi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otosynthesis (creating glucose) releases oxygen into the atmosphere, cellular respiration (breaking glucose down) brings it back into the living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Oxygen Cycl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otosynthesis (creating glucose)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eases pure oxygen (O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nto the atmosphere, cellular respiration (breaking glucose down)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rings O</a:t>
            </a:r>
            <a:r>
              <a:rPr b="0" i="1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back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into the living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otosynthes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kes 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oxygen in the form of carb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oxide (CO</a:t>
            </a:r>
            <a:r>
              <a:rPr b="0" i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and cellular respir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eas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oxygen in the form of carb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oxid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581280" y="51055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09480" y="508644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248520" y="5362560"/>
            <a:ext cx="25016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14:51:21Z</dcterms:created>
  <dc:creator>Rebecca Stang</dc:creator>
  <dc:description/>
  <dc:language>en-US</dc:language>
  <cp:lastModifiedBy>Rebecca Stang</cp:lastModifiedBy>
  <dcterms:modified xsi:type="dcterms:W3CDTF">2010-05-31T13:19:51Z</dcterms:modified>
  <cp:revision>46</cp:revision>
  <dc:subject/>
  <dc:title>Ecosystems and Cycles of Matter</dc:title>
</cp:coreProperties>
</file>